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A57A-3801-4CA8-ACB2-2E533130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4280-D699-45DD-978A-370A835F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AE9D-55DC-4DAE-9098-9ECC4A71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E5B7-FD21-4FA7-9174-DBB73820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D6D-53EE-46D2-AF7E-1FE56DAE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C05-E8A3-4525-BD46-F921A3CE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B77-E76C-459D-A528-65D9BAB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F6B-AC40-403B-9191-E070BA75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B3F-E0B1-4D9A-83F1-10F3BF48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37D-AE01-4041-AAFB-B47D6BF0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4742-F7F3-4D47-9BBD-1943BF35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F225-D40B-41A0-A8C8-08AE4550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5C3C-8D01-4E98-8EAD-76DD88D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4A27-8A8B-4759-989A-BA4F09F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47C-3682-4985-9616-A8D056B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D79-347C-4DC0-B31B-726393FB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DB7-D206-4064-AC79-EFDA4B3F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2F9C-3AAB-4481-8321-C63EE0C8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2F0A-5F98-46C3-8A41-2910F72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BCF0-2687-455B-8CE3-FF83DE2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E581-0E89-43B1-A6C8-7E84D12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F393-6E5A-45A5-A1D3-02F9706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03FD-DED9-4C41-B5CB-56EBB87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766D-A1C0-45EE-8D3E-A3603B84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BD93-7151-4026-B55A-D06A5518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8F3-5137-4A4E-B6CE-DCEB3A6AD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ord Choice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s ______ after my professor extend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paper’s due dat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sy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n cloud n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reliev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, more information is available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re people than ever befo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is point in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n this day and 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, more information is available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re people than ever befo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N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is point in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n this day and 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f you have something to s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n’t act in a shy or hesitant mann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on’t beat around the bus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ay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f you have something to s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n’t act in a shy or hesitant mann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on’t beat around the bus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ay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been working _______ on this project 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ike a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24-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days, nights, and weeken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’ve been working _______ on this project 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ike a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24-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days, nights, and weeken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ng ago, ______ people believ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llness was caused by supernatur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ultitudin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great number o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ng ago, ______ people believ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llness was caused by supernatura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c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ultitudin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an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 great number o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new Will Smith movie i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funny and origi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a bom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 the hi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2388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pecially in college and work writing, it’s important to choose your words carefully. Be aware of the following common problems in word choi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agu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ds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ds that are too general to make an impression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lot, awesome, bad, good, nic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ve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lang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formal language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hi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a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srespec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ordy languag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using more words than necessary to get your point across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s a result o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stead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 this point in tim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stead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hés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hrases used so often that people no longer pay attention to them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easier said than d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ork like a do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at new Will Smith movie i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funny and origi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a bom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 the hi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t was _______ that Olivia had be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reading those rumors about 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lain as d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crystal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bvi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t was _______ that Olivia had bee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reading those rumors about u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lain as d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crystal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obvio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, I’d like to speak with you abo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orrow’s ex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u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ofessor Smi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, I’d like to speak with you abo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morrow’s ex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Do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Du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Professor Smi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reworks display last night was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very g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bright, colorful, and earthsha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fireworks display last night was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n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very g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bright, colorful, and earthsha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izza we had last night wa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ery, very b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greasy and undercook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etty terr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best words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izza we had last night was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very, very ba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greasy and undercook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retty terr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best word(s) to fill in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lank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s ______ after my professor extend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paper’s due dat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sy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n cloud n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reliev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7:43:08Z</dcterms:modified>
  <cp:revision>162</cp:revision>
  <dc:subject/>
  <dc:title>Sentence Fragments</dc:title>
</cp:coreProperties>
</file>